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86D1-5DC8-476B-B5B6-C3E9580A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A187-1C8C-4BED-9E05-79E40063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5942-46D8-4654-AEF9-BA1F2E9E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013B-0F7F-45A8-B7C7-F9D48787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2694-3ABA-4FB4-8AB4-FA4DCC89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5A39-F75F-4764-ADC4-FF4B7201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8923-8AC2-4A50-ADAF-FE6D5063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47C1-788B-4917-A633-2751DAAD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5BCE-E4DB-4009-A769-4511B418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3B75-647D-4230-87EE-7D21F59F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4C32-663F-4FE6-8EAE-4815C439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C4E9-8BBF-40D2-89B9-657385A3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D092-05B0-4EAC-8201-861DD4A2A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08 Strápených únavou úprimne vol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rápených únav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primne vol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 tá súcit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Boh a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iesni a úzkostia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 balzam Slo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tých, čo ho prijm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ch sníme on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dej má pre všetký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chcú byť šťast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íšiť vie úzko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po láske hl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raky sa rozplyn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ár úsmev zjas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mu, kto ver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Boh nás má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a chlieb on m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vodu živú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duchovnej posily odveký zdroj;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 ňom si znave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odpočin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mierni každý sto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ôľ, nepok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lieb z neba ty si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ýtiť aj zástup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y moc máš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dôvere dvíha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ázdne len dl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o, čo treba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z lásky dáš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08:59:00Z</dcterms:modified>
  <cp:revision>20</cp:revision>
  <dc:subject/>
  <dc:title>Je veľký náš Pán, on slávy je Kráľ Nech do všetkých strán  spev vrúcnych znie chvál.</dc:title>
</cp:coreProperties>
</file>